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FE06-5FA2-4D19-BCFB-E7EB03F1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22F8-9BFC-4F11-BA54-0F3D4D43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D899-3300-47D8-932D-AA0208A7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C47A-5051-4BAA-A072-CB936953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30D9-7E3F-47D4-ABFE-D108E44E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1457-C439-430E-B300-E0E5E872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7259-CE0C-44C7-94B5-E565B4AF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72C6-102D-4A03-BA49-A1982576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BB9A-A8D6-4002-B831-3B1692CA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DA4-A288-4FEF-B77C-DE921EAB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3E1F-32C4-4767-B231-DF1938DE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CD93-51B2-4ABB-A8BF-A440B50C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58B7-7C5E-4390-A0E2-58DE2813783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4176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ΚΑΤΑΝΟΜΗ ΤΩΝ ΟΜΑΔ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1557360"/>
            <a:ext cx="8351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μάδα 1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: Ιστορία το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ffiti-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ροέλευση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Βαγενάς Δημήτρη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Καριοφύλη Χαρ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Λούκας Φίλιππο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Νότσικα Χρύσ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Σιαμαλέκα Ευτυχί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μάδα 2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: Καλλιτέχνες το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ffiti-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έχνη ή Βανδαλισμό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εμιρτζόγλου Ιωάνν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Καρβέλης Νίκο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Κασσελούρη Ιωάνν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Κοσκινάς Κώστα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Μπάλλας Δημήτρη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μάδα 3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: Οικονομία &amp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ff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Βασδέκη Γεωργί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Σήτα Βασιλικ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Συμεωνίδης Άγγελο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μάδα 4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</a:rPr>
              <a:t>η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: Θεματολογία-Είδη-4 στοιχεία-Νομιμότητα-Νομοθεσί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Μέρμηγκα Φωτεινή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Μπότσολος Χρήστο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Πάνου Χρύσ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Παπαδημητρίου Κώστα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Πρίντζης Παναγιώτη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1:44:17Z</dcterms:created>
  <dc:creator>user02</dc:creator>
  <dc:description/>
  <dc:language>en-US</dc:language>
  <cp:lastModifiedBy>user02</cp:lastModifiedBy>
  <dcterms:modified xsi:type="dcterms:W3CDTF">2013-01-15T12:05:07Z</dcterms:modified>
  <cp:revision>3</cp:revision>
  <dc:subject/>
  <dc:title>ΚΑΤΑΝΟΜΗ ΤΩΝ ΟΜΑΔΩΝ</dc:title>
</cp:coreProperties>
</file>